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A133-9F49-4A8F-AA26-4CB9B23429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217-3E79-4E7E-B0F5-4AAE095FB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3812-53E6-415D-905C-68397F165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D1B8B-BB77-424C-8A39-31BAD704B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39B9C-9B8C-4A43-BF7E-C517C4E06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0D0A-03EA-4AE7-954D-00251835B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1540-5C4E-4FDB-BC39-CA3D76606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0ECD7-82D8-4CB9-9DC7-59D3D18D8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6BA6-C70A-4BB3-A89A-EAC083E4C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2828-7ACF-41CD-99B4-344B8FDB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6AC52-5934-464B-B980-C117958F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76CB-F51E-49C5-967B-B6B5814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10D7-171C-4A46-9DFA-7BCF6417AC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-plp.wikispaces.com/" TargetMode="External"/><Relationship Id="rId3" Type="http://schemas.openxmlformats.org/officeDocument/2006/relationships/hyperlink" Target="http://wny-plp.wikispaces.com/" TargetMode="External"/><Relationship Id="rId4" Type="http://schemas.openxmlformats.org/officeDocument/2006/relationships/hyperlink" Target="http://del.icio.us/tag/wnyplp21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ny-plp.wikispaces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bpc21.org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8144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ful Learning Practic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yl Nussbaum-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Richar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22860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tting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people </a:t>
            </a:r>
            <a:br>
              <a:rPr sz="32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e b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09680" y="2044800"/>
            <a:ext cx="4267440" cy="3213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0384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im Collins, “Good to Gr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25146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You were hand selected carefully as teacher lead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3049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0080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e-to-Face Meeting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v. 5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y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luminate Sessions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(2 pm – 4 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1 (Intro to 21st Century teaching) Nov. 29, Dec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2 (Cool Tools): Jan. 30, Feb.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3 (It's All About the Learning):  Feb 26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4 (Virtual Learning Fair):  April  28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rtual Learning Community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80880"/>
            <a:ext cx="6705720" cy="64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llaborative Too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NY-PLP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l.icio.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lum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82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91440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Knowledge: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trans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otential of Web 2.0 tools in a 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d context, and how those potentials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lized in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Pedagog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shift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that the 21 Century demands and how 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are being taught by trail-bl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eachers who are already using th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thei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7543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evelopment of sustained professional learning networks for team members to begin experimenting and sharing with other team members and online colleagues from around the worl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ustainabil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creation of long term plan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ve the vision forward in participating district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end of the progra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apac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increase in the abilitie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individuals, teams and the communit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nag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52280"/>
            <a:ext cx="6705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C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eptual Framewor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19051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 conceptual framework ca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1371600"/>
            <a:ext cx="75438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solid foundation of collaboratively developed and widely shared vision, mission, values and goals that align with the 21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Century learner’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laborative teams that work interdependently to achieve comm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focus on results as evidenced by a commitment to 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8088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6477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1828800"/>
            <a:ext cx="6629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riving engine of the collaborative culture of a PLC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team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 They work together in an ongoing effort to discover best practices and to expand their professional expert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LCs are our best hope for reculturing schools. We want to focus on shifting from a culture of teacher isolation to a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ulture of deep and meaningful collabor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5880" y="4876920"/>
            <a:ext cx="2400480" cy="1800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munities of Continuous Improvement and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owerful Learning Practice  Team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7391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62320"/>
            <a:ext cx="708660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dividually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rite at least 3-5 assumptions you have about how you will operate as a 21</a:t>
            </a:r>
            <a:r>
              <a:rPr b="1" lang="en-US" sz="20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entury Learning team this year and any goals you have for the year as a team.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Place all the cards in the center of the table: Stack and shuff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 turn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ach team member picks a card to read aloud to the table. Engage in dialogue and discussion about the assumptions. 1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BLOGGED@GMAIL.CO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-plp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logged@gmail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snb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willrich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638680"/>
            <a:ext cx="17524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1440" y="1295280"/>
            <a:ext cx="3676680" cy="5410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638680" y="19810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ur _x000b_Virtual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5867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 Credit: A socially networked student in an unplugged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763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owerful Learning Practice (PLP)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f2f Cele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76320"/>
            <a:ext cx="739152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are you on the developmental continuum for 21st Century teaching and learning- on a  “know nothing” to “know everything” scale?             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(Please place your vote on ch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wb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ewcomer to cyberspace, Web 2.0 and/or social networking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lor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ng to try a few new things, ask questions, and starting to gain an awareness around using  blogs, wikis, podcasts, and vidcasts in instruction. You have possibly joined a listserv and are sharing ideas with other teache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th Find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or your students have created a blogs, wiki, or podcast. Some of your teaching is delivered in a student centered, inquiry-based format. You are reading articles/books about how to use Web 2.0 tools with your students. You understand the term digital na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Us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blog and teach others how to blog. You use flickr, RSS, del.icio.us, and a wiki regularly. You can give at least three traits of a netgener and confusion and chaos do not bother you anymore. You regularly use project/problem based teaching in your 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estern NY PLP Schools/District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66680"/>
          <a:ext cx="9144000" cy="6477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andolph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ringville Griff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anklinville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roquois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ktowaga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ioneer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weet Home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olland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agara Acad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c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lver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nroe Cross District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Team Leader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1219320"/>
          <a:ext cx="9144000" cy="71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illiam Cald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nda P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ndy Crand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gina Bec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lleen Klimch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Hoa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Bodzi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W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mela Katterm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nifer Gilson</a:t>
                      </a:r>
                      <a:br>
                        <a:rPr sz="2000"/>
                      </a:b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c Law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hma Sztor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A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athleen Gra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ob Tho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Schafhei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n 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rb Golda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sa Cl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267080" y="3156120"/>
          <a:ext cx="609480" cy="54756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b Goldam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33cc33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 Century Fellow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04920" y="1219320"/>
          <a:ext cx="9144000" cy="6476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gela Stock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risten Marchi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Roth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ichelle Ok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sel W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nna Frym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ave Mile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anne My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Blasz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melita Bieni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resa G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ff Bar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oyln K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im Clar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ck Weinbe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rk Ca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ryl F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C. 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adge O'Bri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reen Pietranton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werful Learning Practice for Administrators and Teacher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22096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5238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22096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F-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90512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ense of urgency, build community, whet appet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8288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50 + meet, 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0"/>
            <a:ext cx="12193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486400"/>
            <a:ext cx="990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90512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C where we deepen understanding, network, and share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65760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virtual community designed to help participants gain an understanding of the transformative potential of Web 2.0 tools in a global perspective and context, and how those potentials can be translated into classroom practice in Western NY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15238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06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uilding on Succ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6386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1190160"/>
            <a:ext cx="7391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schools (teams of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team has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Fellows to support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f2f mee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live curriculum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going collaboration in V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/Pos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velopment of 3-5 yea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062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6160" cy="1990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45:50Z</dcterms:created>
  <dc:creator>Your User Name</dc:creator>
  <dc:description/>
  <dc:language>en-US</dc:language>
  <cp:lastModifiedBy>Sheryl Nussbaum-Beach</cp:lastModifiedBy>
  <dcterms:modified xsi:type="dcterms:W3CDTF">2007-11-05T19:25:02Z</dcterms:modified>
  <cp:revision>112</cp:revision>
  <dc:subject/>
  <dc:title>Slide 1</dc:title>
</cp:coreProperties>
</file>